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431F-37CC-449B-A63C-43FCDE03F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3C5A-74E8-4ECD-91FB-AAA9B6E7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EDF3-DF4C-4EA6-A1CD-3B424A011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CEDC-5257-4000-80C2-52CDFF00D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4C37-6C01-4AEF-AF07-FE94A8270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7C8B-047C-49ED-944E-6AFF97D3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0476-CAAE-4903-A5B8-7B5A2FCB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D2A2-7A89-46C4-A6D7-1BFF58E1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6F23-8292-4769-843E-76D0158C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54E1-C784-4C0B-82E3-0D43B805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755E-134A-4658-9724-4DEAC01F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175A-CAFE-4402-A242-3B6B1529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ABA0-C9D8-46D8-9086-5FD5FA8D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EB65-CC3A-4BCB-9BA9-FAE86A47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0521-658B-4C96-A80E-4391F996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30A6-19A7-4D31-AE23-7026E49B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33AA-6DDF-4B8E-A60C-D27CC9C08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96EF-4A40-4A98-B39F-FE856256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257C-B07D-47D2-B8C6-DA7E6F4D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A788-EACA-48BD-8A3D-F621052E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3CBF-99FE-4360-A298-F40516F0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B75E-1EF0-420F-AE6A-5DAF7A36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51D6-E078-427E-926E-B5B171B7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036A-211E-45F0-8E90-ACD1B436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5A74-4B67-4AAE-8DC3-59EF80647A9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A920-1FB5-4BCC-9E20-8D1C927F6A6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English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.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cabulary Workbo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brary for new AR bo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ople who serve on Jurys dont always face equal dutys some jurys decide cases in minutes but others take day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larious:Amusement::error: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lieve:Credible::______:inquisi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swer K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ople who serve on juries don’t always face equal duties; some juries decide cases in minutes, but others take day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ocabul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t Workbooks-Unit 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05:12Z</dcterms:created>
  <dc:creator>student</dc:creator>
  <dc:description/>
  <dc:language>en-US</dc:language>
  <cp:lastModifiedBy>student</cp:lastModifiedBy>
  <dcterms:modified xsi:type="dcterms:W3CDTF">2010-09-20T17:18:06Z</dcterms:modified>
  <cp:revision>2</cp:revision>
  <dc:subject/>
  <dc:title>English</dc:title>
</cp:coreProperties>
</file>